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3056"/>
        <c:axId val="80235152"/>
      </c:barChart>
      <c:catAx>
        <c:axId val="3943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35152"/>
        <c:crosses val="autoZero"/>
        <c:auto val="1"/>
        <c:lblAlgn val="ctr"/>
        <c:lblOffset val="100"/>
        <c:noMultiLvlLbl val="0"/>
      </c:catAx>
      <c:valAx>
        <c:axId val="80235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15B-F689-4B8E-9BD9-9D5B2A49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49F-93BC-40C0-ACF2-8AAC55DA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842-4DDB-4C86-8F93-93FBBC25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12D-9C9C-4D1A-8873-87FFE679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EA0-489F-4648-AE84-A9F73A17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39F-F18F-4809-B406-4905B4B9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3E1-775F-4644-92F8-54B0916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00E-8EF9-476E-994F-378E1C20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67B-6ABD-471C-8170-254F4978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18F-E239-47AD-B8E4-AEE949A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D99-AED8-477F-85A3-657EE7A4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315-281B-462B-8B88-3627645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42FA6-1830-41DA-A0EF-B12A379C8F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