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37137"/>
        <c:axId val="34997605"/>
      </c:barChart>
      <c:catAx>
        <c:axId val="60437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97605"/>
        <c:crosses val="autoZero"/>
        <c:auto val="1"/>
        <c:lblAlgn val="ctr"/>
        <c:lblOffset val="100"/>
        <c:noMultiLvlLbl val="0"/>
      </c:catAx>
      <c:valAx>
        <c:axId val="34997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37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E10-113B-4552-897A-D2E5E994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144-3309-4716-BFB6-0EB68FE2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056-0B1E-4C7D-87B2-3BFC1D4D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3B3-46B9-419A-8A88-36A32427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6FC-B6C6-47C6-BE8F-A960E953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515-A404-47DF-974A-82619DBC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D0E-D2CB-488B-924A-A1AA839E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552-0E1A-4AF4-B8D4-C4D458DA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A1D-9FAF-4F95-A428-9B39A9EC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C3B-0734-457B-B1DF-BFF13C0A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59D-BD67-483B-9A8E-2525D1BF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9C6-E63D-44A7-A691-2FA6F8FE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5579E-3102-46D7-B48B-128E5E0D65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