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522171"/>
        <c:axId val="4076130"/>
      </c:barChart>
      <c:catAx>
        <c:axId val="605221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76130"/>
        <c:crosses val="autoZero"/>
        <c:auto val="1"/>
        <c:lblAlgn val="ctr"/>
        <c:lblOffset val="100"/>
        <c:noMultiLvlLbl val="0"/>
      </c:catAx>
      <c:valAx>
        <c:axId val="40761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5221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30E5-529A-42D6-BC07-5CFA0EA9F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B6E2-B1B1-4FAA-8DF0-F87482683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BF87-0D2C-4FCC-87B6-EBB39374D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B697-CBAD-4326-AE79-940E6E619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7802-FC74-4A0C-A74C-7F6F5C532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784F-C34A-42FF-B793-B0F4A12A6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1787-BD24-4557-8A87-10225B837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9DBB-1010-46FD-B33A-34343B962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771C-FBDF-4904-BD8E-9FBAB8CE6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42DC-77D5-4AA1-8014-B191D2CF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9FB4-215C-4F9F-A2E7-BC89F7E1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BD92-0659-47C7-B4A2-2DB973BE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9033F5-6442-4054-B1E4-3709133508C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