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84523"/>
        <c:axId val="51976414"/>
      </c:barChart>
      <c:catAx>
        <c:axId val="38584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76414"/>
        <c:crosses val="autoZero"/>
        <c:auto val="1"/>
        <c:lblAlgn val="ctr"/>
        <c:lblOffset val="100"/>
        <c:noMultiLvlLbl val="0"/>
      </c:catAx>
      <c:valAx>
        <c:axId val="51976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84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620-7352-4FAD-8CA2-F6BC3D22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D27-6D01-4AFD-9169-B04BDB0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632-3F8C-44A0-A4C5-B595D331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F87-B9DD-4A01-B084-44153797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946-2F32-4132-A030-F436803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BAE-080F-4EC2-AACE-152C3FA0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D25-120C-4EE7-9547-8EAEA9B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C54-2DA8-43A3-9F17-01B0D0BA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A1F-7227-4726-BE79-050C4ED9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9E6-F3FE-4640-A0C3-2C37768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9BB-66BC-4FC7-B4F5-52162038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B07-CCC5-48DB-94BE-5C001CE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01AA7-433C-47F0-A888-7DD9BD3464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