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19721"/>
        <c:axId val="41673528"/>
      </c:barChart>
      <c:catAx>
        <c:axId val="18219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3528"/>
        <c:crosses val="autoZero"/>
        <c:auto val="1"/>
        <c:lblAlgn val="ctr"/>
        <c:lblOffset val="100"/>
        <c:noMultiLvlLbl val="0"/>
      </c:catAx>
      <c:valAx>
        <c:axId val="41673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19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EAA-5EE0-4F15-B6FF-B13C6A67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15C-FE2C-4AB4-A2C2-77867D2E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B63-DA3C-4B7C-8827-6E9CA47F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072-7BE4-4122-BB11-35C0FCD1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492-8097-4435-B9F3-F6470E11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02E-EC8B-4A3F-B6CB-20AC35B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E32-B7F1-4F8D-B856-5B468C6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594-45B0-4809-AF90-C0BCC84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792-7212-4117-A0FE-F860C7C0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814-FB6F-4E23-AD88-C820748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7F5-861A-45D3-8983-9F0F062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8C6-5968-4BA3-860F-2C653522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2D3BB-AB93-4F2D-B52D-3F101BBBC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