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11167"/>
        <c:axId val="34769051"/>
      </c:barChart>
      <c:catAx>
        <c:axId val="79711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69051"/>
        <c:crosses val="autoZero"/>
        <c:auto val="1"/>
        <c:lblAlgn val="ctr"/>
        <c:lblOffset val="100"/>
        <c:noMultiLvlLbl val="0"/>
      </c:catAx>
      <c:valAx>
        <c:axId val="34769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11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F63-C369-4D91-A145-043AEB4C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A2D-1671-4BD6-B977-24D8D94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8D0-8F7F-4F98-BDA2-64B4A403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BDC-44AA-4D62-AD75-88496FAF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A72-BB29-4E1D-98B9-E2A44971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F20-175D-42D8-A8E8-0C17C3B6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CF9-052F-40E0-B238-0254173D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BC6-EDBA-48F5-8781-FBE048F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082-FCA0-41CA-BEAD-58283C37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2E6-80BD-4345-9349-0A604DD3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EA4-A9D4-4A04-8EBE-AF8A68C8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DE3-B3DF-4E24-9F74-E01484EB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5DAB7-C8B8-4E4A-8943-0965DDF806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