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CACD012-876D-4EB9-8D22-F304682D3DD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AF58A0E-6CAA-4B99-BE85-2B2962059EF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6140807-9585-420C-A717-CDA7D8EE1A5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7593F32-08C2-4E93-B8C9-7CC2F1701EC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1E470AB-2E39-4611-9970-23E40EBF155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ED09B96-023B-4DC3-93C2-E5CA2B994CB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0582A8F-5F26-4E93-A92D-139F22AB50C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E77B1C3-D67A-4B79-AB0D-4935B769208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82915BD-EDA1-47D5-A3EC-C4FE7D5CF05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6B50029-30F7-497D-8A1F-CD91A5CAF05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19A318E-C21D-4691-A0DD-8E6FD54B616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4D0CD1F-2C4A-4920-B9F7-7DC589BA8E4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A822B7F-B42E-4B08-9F40-107D66B1B2F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9A88FA8-9B92-4A44-8D14-18625C49B38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D88998E-E8FB-4098-BE89-D6375A90792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2B627D8-6587-4CA6-AAAB-B01D119B2D6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4D792D2-29A4-4DB5-B930-724DB03337D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67B0304-9F36-4FDA-93EE-63ED549802E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4FF9210-8BCB-4EEE-91E8-FED181A9660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807D277-B9FC-4491-A764-BE515731EDF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DFBB9FC-04FC-4B90-81D7-18D9F4B33D9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328878D-DEEF-4C52-A746-0F2F081B98B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A6B5795-A498-44EC-8BA0-E556CFD8A4A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9DF9593-4F06-4471-B055-BE67C37EC58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4D7206E-85AC-432E-AFB8-D22F05F61C6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2CD32A7-1271-426D-9A77-50052AF30B4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BCBFAF1-8803-4767-87CE-6AADC1298D5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B61FF1B-06FF-42C3-9CA5-9667760BC3E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03BB27F-DB54-4605-BF12-0A2D4450D63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6E31423-3E0D-4848-8C2C-C194D1436D6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FA2E9F0-DC2D-4B64-A4F0-755173D72BF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0D60962-E83A-4FEE-8011-C037A00516E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7FB8779-DD3A-4DC0-B58B-DFB0D1C6055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97C7A10-EEDC-4F7E-AA07-A28875CF809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D510F8C-0BEF-4B4C-B901-7922B02FDF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61F9223-E857-4328-8211-6D25FEA6120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4891B-BD3D-4212-B7F9-C2464EE21973}"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E9591-16EA-4525-B726-2A770F483020}"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3225D26-224A-4065-9CD5-C745ADA4D658}"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76D5923-FFEA-4072-B61A-C67E190BE7F9}"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7AF8566-4F90-49F9-9347-4A51DED40063}"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9670E0C-DF8D-47EA-992E-C0A7AEBFCA4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C088E71-CA72-469C-8DEF-045AB99FA9C1}"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92FC90A-03DC-49A3-9A18-10E35B28EDA0}"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51A8328-5C6C-4349-9CE9-C409BA397E53}"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ED15E7D-1658-4099-82A6-DFBF6E3B9837}"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BB8EB65-692D-43B5-8DFC-BD7FD61635CC}"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329B629-383F-4455-B8C1-EAC52F979E8A}"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6EC07EB-E510-4A1A-8F40-4108EF4954CD}"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0230A563-4673-44EB-998F-8B78CB211DDF}"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56AD9D9-F9C8-49F2-A071-7E2A30537C75}"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D948A2F-EBC7-4E7E-9FD9-C85224D45689}"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FE3D687-78D0-4A5F-833A-74EAA62C9CB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438E062-B458-4956-A21A-64E31B19DEDD}"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A5C7203-34F1-4147-AB55-D30445FCF88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B72F8B1-2963-4611-9C5B-EFB97EF69FE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A6BD96F-80BA-4AB5-B81E-1CC27466A727}"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2CDC608-75C7-4BC6-9B4A-46FA3C08C00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08953B1-0E90-4740-896A-03EAB1D51F1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7278EFB-307D-44B7-AED2-6B9F43E0B01B}"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602F8AC-5665-4DCC-AF7E-97DFE06E0E2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DBB49EA-C368-40C7-B248-5D8CFB41428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360524B-FAC2-46F8-8582-ED0093DBF3E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E476E68-255E-48C1-80CA-E515A8C5C68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C1D0C77-2139-419E-85BB-E09D1DD7B919}"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07385A3-649C-4748-8A09-0BCA6975181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D4480C4-577D-4B4C-B76B-5539BE8096E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3D1A090-43A6-41ED-8415-F52FFFDD0BBD}"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8228BFF-866C-4456-8286-B3FBD70932C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963988D-A644-408C-A1D0-BC5D6C44181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255DAA7-0B82-4F9F-B797-798D713BF8F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1387FFC-2140-4B23-86BF-24CF4964811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8F882A1-FA1B-4F6C-AA67-ECBC63641BE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E70E5FA-47F4-4409-9CAE-3BC447AA14C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F745AF3-010D-4ED9-8E35-B75149B104C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5CF213B-41C8-4A1F-B4C3-1E4BA863F4F1}"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C866B27-F81C-4A38-8C9A-1BCD5F3DBFAA}"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FF281CF-5D6D-4EEC-986B-904F06EA3E6C}"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AA11294-802E-43C4-B01F-AEA397EB97C3}"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FA6AFA5-B924-4732-B2DB-FB7B3E6C521E}"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F0E4C1B-66EB-44E3-A735-D83E5B752E46}"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2678572-4578-4A07-B9DE-6891DBEED0A0}"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36534A2-0C4A-4135-AD50-C66861CC3F97}"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0F148D8-4AD8-46B2-A2AD-2F76DE15E76B}"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8CECD42-2772-4DDA-85B9-9F83BA9866FE}"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F378C06-6345-446B-9905-E77158C0D820}"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23A75A9-1739-439B-9402-707FCB015663}"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1671430-4EC6-4ED6-BCC2-94FB853E1529}"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39ED8CC-0636-4529-9674-2DF23095AA29}"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CEB2C8B-5DAE-46E7-A358-9F386F7C23C1}"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225ACED-C831-4F07-802F-14175F828049}"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10A5BAC-8B1C-44A0-A546-9152E735D42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67863F2-79EA-429D-B003-189627FCA436}"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01E2B57-94A3-429A-9409-E2A409379B3B}"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A80259C-2E31-43CF-9195-B1F1A246A0F5}"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60E014C-F701-4983-B7AE-1836E15CDB92}"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7B2A437-5061-432F-A9CF-C36A3BA2DF39}"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5F89CB6-35A5-41E2-92DB-C6C24C5A312A}"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0AC8422-A109-48F2-9BFE-C61CD57225A2}"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CBBF840-C3A0-4DF9-A8B8-E9EE3CC55C40}"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8AB3B37-8157-42B3-9465-45C65551B23F}"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89F6BE3-7CC4-4B05-98F5-C5B4815D97CC}"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A7C8811-0C78-48C9-9E98-65C3BCA9D9DE}"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27F0C79-9DE2-4F8A-B6AD-80C002FEA7DB}"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DE3CB6D-D83D-4DC2-AD81-C13D8242B442}"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AE6B93D-8F88-4C42-8681-813608A2079E}"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5EDF330-D482-443B-8706-E7A1D8F49BD3}"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01FAE60-ED08-4B6D-B51A-D11A7135A446}"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DF02CA6-41DC-4680-AAE0-641CFAC9E960}"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6E4198C-D16D-40D0-8037-568816ABDDF0}"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3148748-A51B-41C5-8D2E-111AA3AC83F9}"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BAE3DDD-C22D-459A-A8C1-8E952022C92F}"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853EB2B-B93F-4F26-91FB-8C04560B0D81}"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262E2F4-AFF4-4F9A-A259-5D1E8E867921}"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4E7EF79-C148-4EA8-806D-1241C1A212F5}"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AF72F92-EB04-4D34-B5C9-761BC8F1474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6A82A89-8A52-47C5-8A40-88434BCE5D15}"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1A67674-7525-40B4-B2FD-F1EC4A68066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1AB8A5F-DC14-4245-A920-5F4DDA66AA74}"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32A70EC-FA07-402D-AA3D-A6F471B604AE}"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0DBCDA0-6E7E-45EF-A53B-34F74CD23410}"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1892DBF-F7AF-4702-A735-281E272FD351}"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2DD27F7-62B0-4784-9D00-C1BFB6113223}"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824E3C5-9246-4DE3-B902-4430A2F6B5FF}"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B2C528B-3721-4927-A38F-62419FD75F0E}"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D007A60-0192-4140-B7C8-8694580FE6E1}"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0001D0D-50E7-428D-80FF-5E136D633671}"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526DDEB-655B-4170-934B-494ABAF701A0}"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8CA85A0-B964-4714-87D2-4C4B3A768D08}"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E993DA0-D62A-4BDB-926C-ACCBDB4544EB}"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D7244A9-C19D-47CD-AA4E-F85A80406AE5}"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1B9B41B-4D2A-43F1-AF41-BBB2E4DE55A7}"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0983E76-597D-4ED3-8F1F-B18624DBF03F}"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54DED3E-4A49-4A4B-A158-6FA7717BD1B7}"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9F028E0-2BFE-476D-87D8-0274219F1BC1}"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7CDF7E70-53CC-4EC5-9CAB-7B28D44978AB}"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59D1D24-BAF6-47BE-A192-810362D0E69C}"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2EC11C8-C1A6-49EC-8898-8F62A973F373}"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B9D5A3B-0BB2-4796-A895-D81C3C612FD3}"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6F261F8-0B22-45D6-9D77-72E76A359FB2}"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DC88301-1C5D-424E-A1A0-06BCF5C57290}"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B628400-4F81-4705-B428-2242F1946D8A}"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F6011CA-2136-4529-BD02-ED02E835036C}"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D965FC7-6AEE-4E95-BF95-D587EA809942}"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7F85EDD-7855-4F6D-8234-C4B2847708D8}"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082E008-797F-4817-8950-102DBDCBE2FA}"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26BDE76-9695-40B1-99B8-677BD183416E}"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109429E-7FC9-436D-8A1E-42EA2EC2F758}"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56D2C30-C93D-470C-99FE-B4B4BCE70DDE}"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