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113D036-BA5B-48E4-9167-FC243402FAC5}"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CFDE8B7-1DFB-47CB-9704-03708CC99EE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42B2B1A-6A75-49B3-81D2-BB31314954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A77371-49F9-45D9-A0D9-47523E7832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3DDEFEB-BD03-4A91-9273-E22D323A27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C557CBC-64F7-4B47-AC7A-7D0EEEC213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D3A7539-385D-43BF-831D-AC2793B44CC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6A0AA5D-3D1C-493B-B906-5FBB5F6DDB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6F7BCC4-066B-4A14-9BAB-2470ED25934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5D0D469-0E68-4D6B-AD93-1254CC9690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88A53BE-1B27-4337-8A33-C30B37D431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BBB909A-15AB-4EC1-A32D-0943A5F415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61111C3-CE27-429E-BDBE-31432BAF3F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3C9BCD-C740-44FB-B94A-B29DCD1826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1D98BEC-B4FD-4368-868C-AAB55594804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96ACCD2-AE36-4B9F-9A72-931A331652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0D168FC-4500-4429-BD59-9BBDB04377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27990FB-F35A-4154-88D8-0C64F0B707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987F59E-8373-48C3-BC67-A8C0298717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4D5171-F10A-4153-A374-DEAF772AA6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877A7B-0B40-4EC8-A2AD-5CABB6C51A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79C9B6-EB59-4587-8C20-545A460AE2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CDEC34-B798-48CA-ADFC-87C5F3BD3A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982CED-456A-4297-8CF7-4D759A4BAB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C4D093-24CC-4D1D-ABB4-9588137368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0FF772-8F24-4A4D-9420-629213BFF5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F7E23-F8EF-4F1F-A04A-2CFCB4B7F844}"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1E6FB-6D17-4A29-9A8B-DD2D097FF1E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1B0558-53B1-4078-BBCA-7C1B24020453}"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A63BCF0-FBA4-4729-A26C-C04F4B959F2F}"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F14935-A8A6-42EF-935B-04A81D516C76}"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2AAE2B-BE45-4311-98AC-2FC1ECE3D303}"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830216-E2F3-44EA-AE1D-0EF80E6476C4}"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76A2ADF-A133-43D6-85B3-A5F62B7C9C43}"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776747-1F2D-4885-AA99-AC47C1BB3E0B}"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8E52573-FE2D-4049-8B4E-05F67A67AEAC}"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6BBD1B-DE07-4400-9F91-BC6692054FE9}"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FDEC7B2-BEC6-4DBE-BF3A-C8AA93782846}"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E8847C-FABF-4656-926C-FF68DF744CD3}"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75E0959-F081-4342-920A-45405F6CD838}"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0C17F1-B925-4738-8134-F27E465A85CF}"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51EF65-26A3-49C3-9779-7C82FEA7A6A1}"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FF51DC-4EDA-4D45-8B2C-4506A7E02D14}"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96005FE-D6D0-4DBE-A925-10581295C29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845733-B5C7-4646-BF5D-F3E7C9098392}"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6DF298F-26E5-4FB6-B3D1-BA3C0C46F6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71C33D14-AE13-44FC-87FF-238075FFB2D7}"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396986-83A9-496C-8064-7E6E780EEB1D}"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E8AF2A9-1BD8-43A3-AB99-EA6502648D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80CB053-2CB9-4390-9EBB-3AEBCFD0A6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FD978D5-756A-4BE7-B217-87ADD3A59CA2}"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E574E9-C83A-4B02-B946-58E1C0B804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4D5DB7-F5CA-41E2-93C5-CC8B4AA353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1AC941-9EC5-463A-9D72-5EBA014295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6CE0F1-C0B6-4F90-824D-BB3A7F6BCF87}"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7A68A97-8998-4151-B390-6CE6BD59EA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A5D6538-F8AF-4B9C-AA24-F079A6AF04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57C2B0-D783-4B5D-841F-794A2240AC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548861D-6BD2-4776-A651-7ACFA3401803}"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A2B05E3-C211-4D1F-8F58-82B2BCE612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9540828-842F-487E-9F64-9319C04FA9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5C0F77-DFD4-4162-AF03-EAC2C63EA277}"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0ECF960-49CD-44DA-8E73-93C8304E0D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80E802-885D-47DD-809E-FD9D4317A0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DCE90F-2A43-4DC5-A568-56D3F561F7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B9D43B-E4FB-4984-BB31-1153663FA9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67DA16-EF99-4F92-A18B-B411798FF5A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DFEC6D1-3280-4D0A-B065-9326E744C0F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C408E8-7B38-40FB-8EF8-AD3ECC46771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16F150D-4DCD-4B04-8139-627AFFA6BA4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63A67AB-DE2E-471D-BD46-66C957CE7CF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9B64BA0-BDD5-4919-B0D2-3789077EF64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5D108B-3762-4E2B-9DC4-1C79140A497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F3CA6E-4606-4819-A3DF-86A6150597C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3B7CD2-1767-4BA5-A264-ECB73964F8C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163283E-EF7B-4BC1-91E0-244A0CDAC02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AB7549D-6CBC-4731-8195-EE34B02920F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97B387-E63E-42CE-B262-654F8866704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752E7C2-10C8-4737-905E-F8235FF0002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CD1BB2-6A3A-47C1-B91E-D22127F8BB1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AF12EF-F699-409D-B18D-56C631336D8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7530CF-283D-4489-A906-A1CB5AF73C6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6B7E5FD-6E39-420A-94EF-901709757AF9}"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49F4EE-E0D3-4D88-AC26-17D18525FC9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97C5554-11B6-428B-AA4F-AB50700B5E9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A1CC7D-1AA6-4782-AACC-C8167356879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D4193C6-C6AB-47C0-8D45-421D1F4F88C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A30C9B-07B7-4625-9874-5034EA06E5A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3E46FB-0286-4AFA-84F1-FAFC83B4A08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B61579-C192-42CF-9756-0CC6350289A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F23ACD-CE20-44F2-BF61-0DB736208EE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093E37-DDE9-4DDB-B7DA-E16E58AC019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EC1427-DB87-4A90-AE5E-B38D50003D3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67DB66-ECE7-4210-90F7-23DB98E5B65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7C103C-255F-4C7D-B6A6-3A4B1DD5B19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7F2C19C-6F67-4061-9FB2-58E77ED817A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F1BD6F-E4C9-4412-9B95-24CD2AA53B5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4406D9-7237-436A-B3E3-96AA470FA4E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9ACD32-DEAB-4583-82B2-7E73D532CCA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11867F-DBBF-4C13-BB52-6A3E58335BDA}"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AB9E816-45F8-49BC-B900-748F32E1B570}"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9FF95F-D16D-4CDD-A372-01763749FD5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812991-9945-4440-BC67-CE209AD89FA4}"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EF66E1-24D6-4B12-9C38-140E6BC18E4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1B7A60-1DAC-489D-8ECE-77DB982DABC1}"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5E46CF-6A05-4D1B-B64D-EBBD1CA1F8E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8707F9-B324-405B-AB59-5717DA037B5F}"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DD278B5-04BF-4C1F-A682-DD02F0012DF5}"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42C99EE-54A0-40C4-A06F-C6CA9170015F}"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DAD5507-562D-4D15-9BC7-6D793BA9C9A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36133C-22F1-4159-9967-A10DB0302D5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8E9F2D-A39D-413C-B754-02B529E5D02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B8EABE-FCE0-4A9F-B0E5-04D82CE33D0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F396D71-F187-406D-8915-9F4616B13D3D}"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F8686D-F92C-421D-83EF-5853B4DA05D7}"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60D58A-0217-45EA-BB50-D6024B4BF64B}"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286F1A-94C0-4D8C-A951-00D687CFF19D}"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DB8799-2D4E-4490-8F35-6973554FFDBC}"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4375D9-C137-439E-A684-C4A496D1C4FF}"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327DD6-C349-42B2-BB94-1C11ED46B8C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823270-CF56-4D34-B8A4-642ACE217F01}"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EFA310-B19B-4975-9CAC-1AB2D790AC24}"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2CF9A94A-0405-4E0A-A551-A77DF570B2D2}"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5FE892-68FD-4E2F-8163-0BF362073A0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893D33-2A87-4AE9-9AA9-A2F7E422109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90D96D8-18BE-41A6-BE24-0F17473BE2AC}"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C52A39-561D-46D2-BD0F-1704D3DAD363}"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932F00F-5F33-4DCA-9E37-289CC2F9CE7B}"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29CD60-7B00-45DD-8DD0-6900BC6ED9D2}"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1F76FF-F5C7-4A08-AA5A-934037BBC00C}"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FD1A73-21B3-4301-B274-A375ED9F55DF}"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810A1C8-49B9-4062-8AAE-D3899E60A626}"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D06A32-3237-4311-8A58-B71230983C3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639B80-AF86-49D8-926D-91AC47CE5E01}"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05B0AC39-5C73-4A53-BDF1-0188EA883AD2}"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FA657A-4DF8-4876-BE40-5EE7DCE53601}"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5E8FFEB-4BB8-48A3-B53E-B22D28BD2D48}"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E30AA0-176D-40C9-A388-6A2C8C7BBA8C}"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DCF730-11A3-48A1-8AB1-EA4D918A6F4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D60E06-F8E6-40F8-A6FC-49FFAD8A45E2}"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