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804456"/>
        <c:axId val="31722470"/>
      </c:barChart>
      <c:catAx>
        <c:axId val="14804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722470"/>
        <c:crosses val="autoZero"/>
        <c:auto val="1"/>
        <c:lblAlgn val="ctr"/>
        <c:lblOffset val="100"/>
        <c:noMultiLvlLbl val="0"/>
      </c:catAx>
      <c:valAx>
        <c:axId val="317224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04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F231-417D-4165-9305-0DCF6AC51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7B6B-0132-4637-9DB2-EABB4194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43E3-6D77-4FCA-B820-E18A42D6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C158-AC4E-42D9-92CC-026D51858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5948-CE08-4D0A-A499-D192CCB5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1016-3D84-4D74-BFC1-61527475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01C6-64ED-47A3-B5CB-8A5FCA6AD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340D-6D72-4DAB-B47A-D8DB5171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455F-109F-4FE8-B791-19462CAD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7247-61C7-4B58-9D4D-0E1D8CF3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AB8C-FB0C-457A-B5C4-6E4B4270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ABA9-6B76-405B-ACB6-4340368B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88DEC-1526-496A-B820-683A454399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