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488606"/>
        <c:axId val="29445234"/>
      </c:barChart>
      <c:catAx>
        <c:axId val="944886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45234"/>
        <c:crosses val="autoZero"/>
        <c:auto val="1"/>
        <c:lblAlgn val="ctr"/>
        <c:lblOffset val="100"/>
        <c:noMultiLvlLbl val="0"/>
      </c:catAx>
      <c:valAx>
        <c:axId val="294452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886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DE4F-D9D7-409A-B00C-B37B5EE6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36B8-65EE-4F5E-A378-18121D7C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F6C1-49E3-4F53-B951-934135EA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37BD-A8EC-4576-839E-4791ACA5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F72D-1A92-4EEC-94C0-7EED0FD2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4E1F-AE85-4E4A-80B9-28721951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6AA7-33D0-4052-B8CF-6711A732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45EF-A427-449B-B864-CDF700CA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54CE-3213-4F04-8B4C-9D077199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E9A7-3454-4EF0-8D63-6255EABE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E82C-F787-47CA-8AB5-B6DCD1B5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AC2F-D6DF-4738-8E53-89E0F5DC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E99C0-3D69-4EE4-BB52-613333D362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