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3592577"/>
        <c:axId val="95984181"/>
      </c:barChart>
      <c:catAx>
        <c:axId val="7359257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984181"/>
        <c:crosses val="autoZero"/>
        <c:auto val="1"/>
        <c:lblAlgn val="ctr"/>
        <c:lblOffset val="100"/>
        <c:noMultiLvlLbl val="0"/>
      </c:catAx>
      <c:valAx>
        <c:axId val="9598418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59257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33B7-F362-49D6-B8DF-E5A335ED0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8FB2-7CB5-4D82-9E4C-A0CE42091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36EC-2C4A-409E-9669-AE8627503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539D-2FEA-444C-BC47-778DA19D6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431A-862C-46A0-9D90-11841E52C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EAEE-D87E-4458-B40F-CF97AC3D4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F053-075F-40F5-A30C-5D1F91983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2D03-077F-4FE9-8560-2CA88E428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C2A6-A263-42C6-9BF8-EA7F6F234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67FD-B1CB-4B3A-8206-3498446AE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A911-8B65-4ADF-AFAF-88B86ECE0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76FF-FC97-42E5-8DC5-74884FA15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6AA811-9A62-4424-8DFE-44E404FA637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