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78265"/>
        <c:axId val="50004379"/>
      </c:barChart>
      <c:catAx>
        <c:axId val="65478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04379"/>
        <c:crosses val="autoZero"/>
        <c:auto val="1"/>
        <c:lblAlgn val="ctr"/>
        <c:lblOffset val="100"/>
        <c:noMultiLvlLbl val="0"/>
      </c:catAx>
      <c:valAx>
        <c:axId val="50004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78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532-C91F-4292-8D3C-5F9FE1F7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B49-C4FC-4359-9769-E24075DC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B2E-5040-468C-8B62-51C41777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2C6-E1C0-46E4-8618-DE6D743E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359-C2FB-46C5-A975-5701D0A8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E01-B141-41C2-BA54-3F0D58F0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BC7-ED3C-45C2-824E-B2071A3A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0E4-2A5D-4B0E-9961-91AA027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C66-EAD9-4D03-B424-D5FC9C4C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246-E00C-4CFF-A5DD-65F7E464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2BD-39BF-46F8-8C88-BB7F75A5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936-EB7C-4A2F-A7B8-257C4331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5529F-8413-47F0-859A-A222026BE7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