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79766"/>
        <c:axId val="10561844"/>
      </c:barChart>
      <c:catAx>
        <c:axId val="99979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61844"/>
        <c:crosses val="autoZero"/>
        <c:auto val="1"/>
        <c:lblAlgn val="ctr"/>
        <c:lblOffset val="100"/>
        <c:noMultiLvlLbl val="0"/>
      </c:catAx>
      <c:valAx>
        <c:axId val="10561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79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FDB-6829-48F1-80B5-98FAA9E2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546-7579-47EB-887E-6788FD7C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DC0-8043-4E36-96DD-32A6F477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ECE-017F-4F49-AD1D-5E5F5586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EE4-2376-476C-808E-AF26F502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23F-F722-4600-8FC2-2458A908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ADD-DBA6-4EA5-94F8-8F4687A2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36A-6284-499F-9AE1-C874F355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09D-AE74-4A3B-A847-93CD8109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0B8-BEB2-47F7-9843-1BA69475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5BE-73FA-438B-A2A2-81AABC24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691-6383-4DC6-8864-7514A699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47948-6F6B-4874-BF67-AE8975B603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