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23968"/>
        <c:axId val="40715890"/>
      </c:barChart>
      <c:catAx>
        <c:axId val="52823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15890"/>
        <c:crosses val="autoZero"/>
        <c:auto val="1"/>
        <c:lblAlgn val="ctr"/>
        <c:lblOffset val="100"/>
        <c:noMultiLvlLbl val="0"/>
      </c:catAx>
      <c:valAx>
        <c:axId val="40715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23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C78-D191-4E57-9B13-8275825D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D14-7032-4AD4-8E91-19BC409E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AE2-B0AA-43FA-B85E-C88E1EA7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D09-75ED-4E08-AD09-C6804CE7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AA6-A593-4EBE-9E0B-7E37C879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DA1-3F47-4591-AF75-EFAD7AB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B08-9ED5-4FDA-ABDA-3545795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D3C-4519-498B-BEBB-B80E200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214-5B2A-48C9-BD66-6DFF777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485-3E8D-4AD1-9991-31196C2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E30-BE53-445B-B679-803E798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DE3-EA2F-4BCC-87F1-25BAD98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75F86-F247-4EEA-8327-CEEEA07C0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