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07958"/>
        <c:axId val="56465735"/>
      </c:barChart>
      <c:catAx>
        <c:axId val="32307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65735"/>
        <c:crosses val="autoZero"/>
        <c:auto val="1"/>
        <c:lblAlgn val="ctr"/>
        <c:lblOffset val="100"/>
        <c:noMultiLvlLbl val="0"/>
      </c:catAx>
      <c:valAx>
        <c:axId val="56465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07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BAF-F222-4755-9AC1-AE5FFB47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9C9-091E-4D73-904D-EB6B6E6A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249-F8CF-43D7-85D5-E77CC8B0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0AF-794D-402A-A093-C9619267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119-F6AA-4AD0-93A1-AE993CEF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1BB-2FB3-4EF3-B29B-1A349525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FAC-0CDD-4DD8-B624-23250C5D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839-3E9D-482C-A71D-C02A765F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A60-D0F0-4A22-B0E5-2A9257A9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018-D89A-4C44-86B0-B182EC3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84A-E20D-44C3-9221-CE9CA8A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36A-5397-47C2-AB3C-9F19347B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EA12-83F9-4D12-8869-69B67B370C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