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A8E2-9C65-458E-BFD3-359E8A9BD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CB9E-7F3E-42EA-A50F-A315643E3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FD2D82-ACDE-4486-BE5F-EDD2BE489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D91583-16D5-401C-B325-5692D384E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3AB1BD-2BFA-4543-88EF-CAB41BCE1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B4E49E-778F-458D-9B47-25594FAF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56E315-1A52-4398-ABF8-1BC174AA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C6C338-E412-4B56-A4D6-0D5419EB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731BCC-E045-4F90-AFA9-0D8D8D839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F4BFFD-3E2A-4263-A3B7-F4D6312B8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C0207A-F6D3-4EE6-8502-127B5F52E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683BF43-D5C7-4AA4-A11D-814868CA1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1009-57B4-4586-9807-E1917C407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5A56177-F959-4E0D-BEF0-A1EA2C767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9D15249-E477-4A7D-836C-0D618328C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725C6D7-8CDF-40BD-8B8A-A4C43EB31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F6480EA-9481-4F30-BF36-5751D2299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47BE0D9-91C9-4651-A7E2-BDB34032D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6E19B15-7CE9-4B74-90CF-11877D99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7F93761-8F6B-47FF-9A48-C17F4545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FBD6D4F-1972-4C8A-8F71-592D1A59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2D1E04D-378E-46A9-920D-9E831740F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48231E7-AA59-46B1-9523-A509EBF19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8844-E94B-4E9A-9147-AECBDA764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CDF3631-7B48-4E31-A5D6-1A004CE2E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70297E-978E-474D-A42A-9FE2CCE3B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B4298E-AB5B-4CE8-878C-4AF128B45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34D465-5538-4B42-AEEE-A9B27089E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9EBC99-EDE8-4472-B676-2B7FAD726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534033-3D8D-46B6-A0FC-2C7BA6455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23CB26-5040-43FE-B772-FBD9F9D9A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0CF78D-8D96-4A7D-A0F9-1D9D746D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46025E-BCD1-4BD5-A894-113875E8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AE38E0-8715-4281-B947-3062E02A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CBADA-14A5-43F3-84B2-08D216ED8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840E8D-B436-490F-A9EC-AB26D983E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54D0C7-7222-4AC7-892A-2F28F30AB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17CD4C-D1C6-446B-8194-392955AAE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FB496A-5C2A-4B5F-AC87-31F56BC06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16F66D-4E3D-4452-AB01-314C324B2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921F74-E759-47C3-AA5A-1FD7D9F65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E655FB-111C-469A-B599-6B15212B4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312089-CFA5-4DFD-8CF8-D9E6DBCB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955EE7-417E-425E-A3FA-BD9DEC0FE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15FB7B-D6E3-40B2-9C96-0C51BBDE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CCAC9-B81B-453C-993F-93C7C8941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9B5A11-0643-49FB-B191-AD9A8761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695BD8-172F-4ABD-974A-79D673A6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DD0D01-7E8A-4B9A-9E61-D2214FFB3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0C7F21-E49B-426D-B603-2918FA1E3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E54CC6-7D02-4760-9858-97ED98FA1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2737E-0D7E-49F1-9CE1-F3A17D022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78068-3DAE-4ABB-A73B-A38C210BF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508B8-70B7-40C9-A536-5E03152B4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73C51-1F65-4504-BF3F-4D8754C1D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93781-9F46-40DF-AA51-48B0019C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3AE2-5F4B-44DD-84B3-E11632A4D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76C1A-0E46-4573-8D8C-2528CC80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453C3-CF10-4C1F-8298-4439CD25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2E67F-F21A-4A16-BF48-FEA85C627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2AEB3-863B-4FB4-9AD3-78AD6503E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01ED5-1C74-4DC9-AC0A-48155A324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B2CBC-70C0-48D0-A51F-D57899D46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9F2F6-15BF-4DFB-B2B6-F9FFCD3E6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9640D-A236-48FD-8373-D4CFE162C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66D5C-DE26-4436-8889-F74517215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10ADE-A227-4E5F-BF01-1F23E6D15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B896-482D-4ED2-B95C-CA9B8736A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E14FD-0A90-4715-B520-9F302B2AE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6DDEA-A7BD-4521-A590-A5BB190B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6C0CB-B164-42B3-A901-E848DC8D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D8241-3E0C-4159-9122-DD69C0F8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05388-987F-4492-AE9C-D314D6E61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8CCD8-63F0-4699-A2B0-9DE46F17B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A34AA-A875-4BCC-AA49-6844ECBD6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73E05-32E5-489F-A66A-D4F4C9A46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F5343-5D04-4D47-B9CF-497BB6F02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F8140-47E3-44F1-869C-DA486A2D6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937A-6DC2-4DCB-92B3-353BD81E0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D7842-A527-4FF5-8A14-34102C370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F0F32-E0DE-40F4-9871-FCF564459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2973C-5711-4AD9-98F9-06545C5E4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FB749-3562-403C-9CF7-594E4CAD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FBA09-00DE-4F78-97D8-8B554C4A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C6C36-593D-4350-8A3C-62F26A70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BF2BB-AFA2-4796-B0EE-C209BA636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AA172-45DC-41E4-BF74-417E29CAC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15D46-0DB0-41B0-9DC7-BF1C55CB4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122158-7A3D-41D0-BF56-8D9B61007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E1C5-A0E3-4B13-99A0-2A0943A7F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DFEE3D-972B-41DB-A680-735A003B5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29B021-0D65-4BA7-99FB-5B05420B5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A671D5-A250-4A8D-A3AD-669FDCA4B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BF6089-A813-439C-9B69-D096655CD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F324D7-3689-4358-9CA1-E7AF3EEB0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480E25-7310-4A95-84BB-489FCCF1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B6B29A-EE3C-476B-87F6-C997DF54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BD71AA-3920-4131-A8EE-20E3680D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E8E31F-F585-4125-AFAC-A1A372120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282BE0-7B4A-41B6-95B7-A6153BB2A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2BA6-9EA5-4615-9E90-8F136B59D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5C703D-7D56-477B-8243-65E1FCA3D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CCFE1-27DD-41D7-AF5F-661E065EB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49BF1-75A1-4E67-89BC-8D0589B97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09B07-3128-4F34-893B-8A2A826AF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44B1F-A609-4118-AD7B-0DA99469A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998A1-00FF-4E6F-9E89-4B015625A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9F4E3-93F9-4CC5-B8A8-889F5339F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C8964-49E6-4897-B1FF-4F2C6A3F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33FE5-8ABD-4FDB-BEFB-CE0D3660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5F5DF-03B3-42AA-945F-C730A924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A333-5B45-4ED7-9B1E-AF303AC8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48B4E-9065-49EC-9496-DAC7744A3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4975A-7D1A-41D2-86E3-0FD7AF874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CA9D0-9701-46F2-859B-D2F08B538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9E4D69-1257-4E93-A6BB-9B6C528D7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3B0126-102E-4F78-A421-FF6E7658B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13DF8E-E7B3-442A-B5F3-175DF1E1A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96D44-D693-4168-BE29-4174C69D4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CD5B8-3F64-4CC0-8AAB-88D6C8D05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98664F-B9A3-4D5E-B020-6F3E0452C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B91FE4-16B6-4583-A957-7202C8A8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45C4-3C55-41F0-B6FE-27AEC529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AEDF6-B527-40E6-BB51-2F7613B4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BB304-851C-46D9-8D02-3F5DC921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3EC97-565D-499F-ABF9-5077EE5E2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0CF49-2875-4C36-98E4-534160D05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4AC70-7BB3-4EFB-8A77-B51D58B4D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835022-E77B-40FB-8E71-FFA4E5EAA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07D8BD-D4A4-4507-A891-41C5EDF4A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C546C-1A4F-493F-AFD7-95A14DAD0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AD2CA6-94D9-4E01-B0F1-307CA5AA7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115DFD-DB50-4E4E-BA55-186F4EF51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F01E-2364-4032-BE17-1891E8B8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33243-65F4-41B5-B807-2767ABC3F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E412C-4D37-4D4E-A5B0-D9495A0A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D159FE-DF8E-4F8B-88B2-6FE02E3C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78BEFA-6708-46F3-AC99-F91EC058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847AAE-71FF-44F7-A2D7-042B3E438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0D267D-7ABB-4EB1-B0E1-9D846749B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E1C92B-F7E8-4469-B759-098A153C8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3F08B5-1153-418D-BF9E-050B68DAF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349182-1BAD-4840-8C4E-9F5898A7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F1A014-95CB-49D4-8DCE-FD22AC63D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780D7-B835-41D2-A814-5A56726CF20B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4661A-6C1D-4C3A-AFF7-CA69527CA00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CFB38-191E-4859-AF32-F2B9F35E709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EB64F-3EAB-4163-9831-906B64F11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357CD-7C8A-4B4C-8054-F11AC3566922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12526-F424-4619-8C77-FA30D0E1B55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459E2-35CE-4F8A-8BB5-B3C492CAFFC6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A3683-6281-4CB8-91F8-E386DF417D8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9D844-139B-459D-95D3-D7A6BC89B8EA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B597E-66EB-45DD-8202-3E9172548EB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FB9A4-E603-4E8F-AE0A-042A9192FC2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C0F0A-84B2-40DA-8763-E659BED450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75223-A2E8-42F0-96C1-72F6AFFEAF1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85E32-8445-4114-80F9-C7AD822EE5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2B22A-18A0-4435-AF29-1047792A698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497F0-D8B2-45F7-98C5-107512A58C51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1B1D7-9690-49E2-8944-C65CE9194F1E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32583-80D9-4B11-80B1-B057CCC34E7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4BDC9-FFD0-4C6A-959C-35F5434422B5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905B6-D1C6-47AB-8B47-3041745AAAB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F574B-065E-413F-9C3F-563A193A4E93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ED646-32FA-4F36-9F46-A19163CC470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A3CC9-EBD3-4B5F-BEB2-E762504E756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9DFBE-7A81-4448-970B-D43B27E4A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7B47-72DA-4C99-83B4-75D865F83E8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3ED83E-35D7-4043-86AF-DDB94B076FD2}" type="datetime1">
              <a:rPr lang="en-US"/>
              <a:t>07/29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DBE9F2-DEBE-4C2E-9C07-7E9FEDB41DA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71AE6307-0C7E-4528-BE0D-1709723C30B0}" type="datetime1">
              <a:rPr lang="en-US"/>
              <a:t>07/29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0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B513F-540A-4F82-BA0B-9E432DC2D94A}" type="slidenum">
              <a:t>3</a:t>
            </a:fld>
          </a:p>
        </p:txBody>
      </p:sp>
    </p:spTree>
  </p:cSld>
  <p:transition>
    <p:comb dir="horz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0"/>
                            </p:stCondLst>
                            <p:childTnLst>
                              <p:par>
                                <p:cTn id="1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F6972B-6146-4227-9632-F70A6A34B624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BDC005AB-34F2-43D2-A315-8EF187E203AE}" type="datetime1">
              <a:rPr lang="en-US"/>
              <a:t>07/29/26</a:t>
            </a:fld>
          </a:p>
        </p:txBody>
      </p:sp>
    </p:spTree>
  </p:cSld>
  <p:transition>
    <p:wedg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8000"/>
                            </p:stCondLst>
                            <p:childTnLst>
                              <p:par>
                                <p:cTn id="2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25C116-DCAC-4920-A352-C62AAB88911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E3C5FB45-544F-4117-8C66-D8FBD385ECF9}" type="datetime1">
              <a:rPr lang="en-US"/>
              <a:t>07/29/26</a:t>
            </a:fld>
          </a:p>
        </p:txBody>
      </p:sp>
    </p:spTree>
  </p:cSld>
  <p:transition>
    <p:wipe dir="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000"/>
                            </p:stCondLst>
                            <p:childTnLst>
                              <p:par>
                                <p:cTn id="2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4000"/>
                            </p:stCondLst>
                            <p:childTnLst>
                              <p:par>
                                <p:cTn id="28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0"/>
                            </p:stCondLst>
                            <p:childTnLst>
                              <p:par>
                                <p:cTn id="2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6000"/>
                            </p:stCondLst>
                            <p:childTnLst>
                              <p:par>
                                <p:cTn id="29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7000"/>
                            </p:stCondLst>
                            <p:childTnLst>
                              <p:par>
                                <p:cTn id="30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8000"/>
                            </p:stCondLst>
                            <p:childTnLst>
                              <p:par>
                                <p:cTn id="3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9000"/>
                            </p:stCondLst>
                            <p:childTnLst>
                              <p:par>
                                <p:cTn id="3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7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8CC4ED-E7C2-4E80-AFA0-4A287ED4550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5F8B1457-D8C2-432C-9E67-15485BBA9D9D}" type="datetime1">
              <a:rPr lang="en-US"/>
              <a:t>07/29/26</a:t>
            </a:fld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2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3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