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2D79-CA1C-4630-B515-F7384D089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AB3D-C06D-4A1E-81C6-3F416CA55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4843-F9B1-4C2F-9F78-D8F80D5AA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BB37-C863-4807-A676-7C8B996A66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8857D-5189-430B-B9B9-6BE8ADC94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D19F7-E659-4DED-81DB-DFEF6068B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9E19D-85B0-4EDA-938B-52415A870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B86A7-187A-4A0A-82E4-30BD0B992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92098-CEA4-48D8-AE5F-AC656E5B4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1B0DF-3602-4772-A512-737094B31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375C6-C04E-41A0-A6A0-EB6FD0A98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8C03A-4748-4E2B-A425-5E3CAC960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BFEAAC-A81D-4879-9A14-02F51952F15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700200"/>
            <a:ext cx="7391520" cy="54007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820800" y="189000"/>
            <a:ext cx="1008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ource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00120" y="3808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432080" y="12600"/>
            <a:ext cx="9144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ilters Menu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752480" y="228600"/>
            <a:ext cx="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424240" y="184320"/>
            <a:ext cx="11570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971800" y="388800"/>
            <a:ext cx="0" cy="525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624120" y="184320"/>
            <a:ext cx="1024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Bar Char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38480" y="38088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7391520" y="184320"/>
            <a:ext cx="16002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View Configuration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8029440" y="38088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534520" y="1949400"/>
            <a:ext cx="609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3D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7695720" y="2057400"/>
            <a:ext cx="838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8400" y="7300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oad/Save Data Button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61840" y="990720"/>
            <a:ext cx="246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400" y="1174680"/>
            <a:ext cx="914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ommon Filters Toolba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5800" y="1295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6320" y="156852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ipeline Browse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46200" y="17524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6320" y="32446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Object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62120" y="3429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6320" y="4844880"/>
            <a:ext cx="91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Animation Inspec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762120" y="5029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276720" y="6400800"/>
            <a:ext cx="1143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readshee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809880" y="57146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629400" y="6400800"/>
            <a:ext cx="10666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XY Plot View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V="1">
            <a:off x="7010280" y="56383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23T18:26:05Z</dcterms:created>
  <dc:creator> Amy Squillacote</dc:creator>
  <dc:description/>
  <dc:language>en-US</dc:language>
  <cp:lastModifiedBy> Amy Squillacote</cp:lastModifiedBy>
  <dcterms:modified xsi:type="dcterms:W3CDTF">2007-08-23T18:58:56Z</dcterms:modified>
  <cp:revision>2</cp:revision>
  <dc:subject/>
  <dc:title>Slide 1</dc:title>
</cp:coreProperties>
</file>