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542744"/>
        <c:axId val="61215432"/>
      </c:barChart>
      <c:catAx>
        <c:axId val="805427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15432"/>
        <c:crosses val="autoZero"/>
        <c:auto val="1"/>
        <c:lblAlgn val="ctr"/>
        <c:lblOffset val="100"/>
        <c:noMultiLvlLbl val="0"/>
      </c:catAx>
      <c:valAx>
        <c:axId val="61215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427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3507-1961-4CD9-A40B-9A1EE100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7725-CCE2-474F-A3BE-87035BF7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8A14-5EFD-4977-924F-E5164795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A447-D7CC-4E8C-BD3E-32B99047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CB0A-922A-40B4-9120-A07D403C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1AC6-1AFF-4762-AE10-60953E67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B856-F563-40B0-BF73-2E32D4D5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483-717F-46C7-AD31-FB36DDC7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85E-346D-436A-BA3E-C0480765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F8EF-ECBE-4BAA-B905-5523F271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DA02-BC48-423A-B37E-822B6413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38F2-12E1-4D85-82F2-3AB404A1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8B4BF-33B8-4F6A-A327-0A8B3CC524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