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23069"/>
        <c:axId val="57599899"/>
      </c:barChart>
      <c:catAx>
        <c:axId val="72923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99899"/>
        <c:crosses val="autoZero"/>
        <c:auto val="1"/>
        <c:lblAlgn val="ctr"/>
        <c:lblOffset val="100"/>
        <c:noMultiLvlLbl val="0"/>
      </c:catAx>
      <c:valAx>
        <c:axId val="57599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23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251-9001-4CCA-9211-F6D84704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51D-F1E8-4351-AA67-A5EA9848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688-7AB4-4D4D-9ED8-675B5E75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E54-7E31-463E-9B18-9AC31023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A7F-5B00-4F56-95E8-51FE3290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1F5-40F1-4690-B63D-D1D162F8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0A0-520D-4B57-AE3C-661F94E4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382-6C1D-4332-988A-4F7D72A7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0FE-71B1-41D5-8F33-17EFFA18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5ED-C0A6-4B0A-9A11-FFF60FDE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120-5792-4A1D-9BBF-41FA084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054-C464-49ED-8F7E-2A9EA35D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D2E5E-304E-4813-8E3F-953A54ADC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